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C47F-2FD6-4511-B50B-194433E90562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5322-90CE-42D0-B63A-9FF92E0AFCE9}" type="slidenum">
              <a:rPr b="0" lang="hr-H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77F4-6398-45AA-A0D0-BD5F93877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2E9C-34DE-49A0-A2B6-501F5E8B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E99E-707D-4462-BA75-201392DE0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C7D1-2FAD-46E5-B3FB-44932E7FD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F05D-D69C-4B0C-A393-ABD925403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D24E-8CBD-474D-8DDA-DA7FC242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D9D5-47A3-4F11-B9B1-511E6A56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B5E0-AB37-4476-9F46-B1F24EB1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EDDB-85A5-4228-8619-ED616ED9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B5E7-C29F-4D53-87F2-D9285B65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E415-83FB-4E61-9834-C1D8775D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95D8-60A8-43F6-81EA-CA126A20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D96C-B148-4478-AEE1-92ACCAF4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C1B1-D351-4FA6-B615-0CF76FE2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0AF3-1172-4155-A696-3AA54785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86F5-E8D3-4040-B6E4-4DB613012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C7AA-E7F0-4467-BB93-837B8B1E0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925C-59AD-4E1C-8661-E3B66EBC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2588-880F-40D9-90BE-8041F888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9D3D-A80F-416F-9AD5-4F33919B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25DF-44F0-4264-8028-7134B8F9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ADB7-F3B6-453C-BF12-C1C831C4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2CFA-6301-4630-A5A3-30BF8E21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F683-E9A0-49EC-A6B8-557B1D41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5fff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ahoma"/>
              </a:rPr>
              <a:t>Šibenik, 19. lipnja 2009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E0D8-772A-47EC-A404-A9C83CD11E4D}" type="slidenum">
              <a:rPr b="0" lang="hr-HR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5fff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Šibenik, 19. lipnja 2009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91D1-9DD2-4973-82EF-C7E8E908F702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f.kg.ac.yu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2045520" y="500040"/>
            <a:ext cx="470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Times New Roman"/>
              </a:rPr>
              <a:t>Факултет медицинских наука у Крагујевц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Times New Roman"/>
              </a:rPr>
              <a:t>Интегрисане академске студије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стоматологиј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5" descr="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0"/>
            <a:ext cx="1042920" cy="14050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6"/>
          <p:cNvSpPr/>
          <p:nvPr/>
        </p:nvSpPr>
        <p:spPr>
          <a:xfrm>
            <a:off x="324000" y="1989000"/>
            <a:ext cx="8381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ОДУЛ 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Вештина комуникације у здравств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1835280" y="3357720"/>
            <a:ext cx="554508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00"/>
                </a:solidFill>
                <a:latin typeface="Times New Roman"/>
              </a:rPr>
              <a:t>15. наставна јединица (петнаеста недеља)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Комуникација у здравств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5879520" y="5997600"/>
            <a:ext cx="289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Times New Roman"/>
              </a:rPr>
              <a:t>Доц. др Владимир Јањи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5E7C-AA09-4D40-9929-85C4673A89FD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76320" y="-36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SzPct val="75000"/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ограничена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средства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за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здравствену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заштиту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неодговарајућа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организација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рада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управљања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могу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такође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отежати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постизање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договора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с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a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гласности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те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погодовати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настанку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подржавању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непријатељске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комуникације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чак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мобинг</a:t>
            </a:r>
            <a:r>
              <a:rPr b="1" lang="en-US" sz="3100" spc="-1" strike="noStrike">
                <a:solidFill>
                  <a:srgbClr val="ffff00"/>
                </a:solidFill>
                <a:latin typeface="Georgia"/>
              </a:rPr>
              <a:t>-</a:t>
            </a:r>
            <a:r>
              <a:rPr b="1" lang="sr-CS" sz="3100" spc="-1" strike="noStrike">
                <a:solidFill>
                  <a:srgbClr val="ffff00"/>
                </a:solidFill>
                <a:latin typeface="Georgia"/>
              </a:rPr>
              <a:t>а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AAA1-E7A7-40EE-923F-C44E9F30F93F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91440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Georg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строга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хијерархијска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структура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недовољно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одређене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улоге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двосмислене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које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се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сукобљавају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у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извршењу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радних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задатака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недостатак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јасних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правила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у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раду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нејасна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правила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понашања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претерана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радна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оптерећења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–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обељежја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су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која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углавном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описују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устројство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рад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у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здравственим</a:t>
            </a:r>
            <a:r>
              <a:rPr b="1" lang="en-US" sz="3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3000" spc="-1" strike="noStrike">
                <a:solidFill>
                  <a:srgbClr val="ffff00"/>
                </a:solidFill>
                <a:latin typeface="Georgia"/>
              </a:rPr>
              <a:t>установама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6DF6-BE35-40A0-AFE3-50E7850202FA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28240" y="380880"/>
            <a:ext cx="89917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У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настојањима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тог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прилагодног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самоодржавања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не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само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да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пристајемо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подносити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стресове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него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их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сами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свесно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или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не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производимо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Радник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под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стресом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може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на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погрешан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начин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доживети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тумачити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очекивања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других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у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односу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према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властитом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понашању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Може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ометати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друге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не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поштовати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социјалне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норме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радити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на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неодговарајући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начин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тиме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као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одговор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изазвати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своје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сараднике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да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одговоре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нападом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на</a:t>
            </a:r>
            <a:r>
              <a:rPr b="1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700" spc="-1" strike="noStrike">
                <a:solidFill>
                  <a:srgbClr val="ffff00"/>
                </a:solidFill>
                <a:latin typeface="Georgia"/>
              </a:rPr>
              <a:t>њега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DC34-2790-472D-93F6-BC05B253B636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Спречавањем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негативне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комуникације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спречава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се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могућност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настанка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стреса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на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послу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подстиче ефикасност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385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5" dur="385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7" dur="385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9" dur="385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9724-B822-4B0A-B60C-1A3BA7BC83A2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590920"/>
            <a:ext cx="84582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ffffff"/>
                </a:solidFill>
                <a:latin typeface="Georgia"/>
              </a:rPr>
              <a:t>Како</a:t>
            </a: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3600" spc="-1" strike="noStrike">
                <a:solidFill>
                  <a:srgbClr val="ffffff"/>
                </a:solidFill>
                <a:latin typeface="Georgia"/>
              </a:rPr>
              <a:t>побољшати</a:t>
            </a: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3600" spc="-1" strike="noStrike">
                <a:solidFill>
                  <a:srgbClr val="ffffff"/>
                </a:solidFill>
                <a:latin typeface="Georgia"/>
              </a:rPr>
              <a:t>комуникацију</a:t>
            </a: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3600" spc="-1" strike="noStrike">
                <a:solidFill>
                  <a:srgbClr val="ffffff"/>
                </a:solidFill>
                <a:latin typeface="Georgia"/>
              </a:rPr>
              <a:t>у</a:t>
            </a: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3600" spc="-1" strike="noStrike">
                <a:solidFill>
                  <a:srgbClr val="ffffff"/>
                </a:solidFill>
                <a:latin typeface="Georgia"/>
              </a:rPr>
              <a:t>тиму</a:t>
            </a: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3600" spc="-1" strike="noStrike">
                <a:solidFill>
                  <a:srgbClr val="ffffff"/>
                </a:solidFill>
                <a:latin typeface="Georgia"/>
              </a:rPr>
              <a:t>здравствене</a:t>
            </a: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3600" spc="-1" strike="noStrike">
                <a:solidFill>
                  <a:srgbClr val="ffffff"/>
                </a:solidFill>
                <a:latin typeface="Georgia"/>
              </a:rPr>
              <a:t>неге</a:t>
            </a: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?</a:t>
            </a:r>
            <a:endParaRPr b="0" lang="en-US" sz="3600" spc="-1" strike="noStrike">
              <a:solidFill>
                <a:srgbClr val="e5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0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0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4DEB-E8CB-4007-8B44-5044E349F70B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Комплементарност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комуницирања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с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темељи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на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признавању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различитости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на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садржајном нивоу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а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симетричности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на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прихватању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једнакости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особ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с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којом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комуницирамо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односно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већ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знањ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стручност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једн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особ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н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би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смело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бити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разлог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за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претварањ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друг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особ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у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пасивни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објект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EE4B-219B-4581-8A7C-6FD82E2B9A98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Ако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само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шаљемо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а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не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желимо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примати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поруке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ако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само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говоримо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а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нисмо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у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стању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слушати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,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 комуникација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је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једносмерна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карактерисана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заповедним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омаловажавајућим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односом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према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сарадниц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Georgia"/>
              </a:rPr>
              <a:t>           </a:t>
            </a:r>
            <a:r>
              <a:rPr b="1" i="1" lang="sr-CS" sz="2400" spc="-1" strike="noStrike">
                <a:solidFill>
                  <a:srgbClr val="ffff00"/>
                </a:solidFill>
                <a:latin typeface="Georgia"/>
              </a:rPr>
              <a:t>пошиљалац</a:t>
            </a:r>
            <a:r>
              <a:rPr b="1" i="1" lang="en-US" sz="2400" spc="-1" strike="noStrike">
                <a:solidFill>
                  <a:srgbClr val="ffff00"/>
                </a:solidFill>
                <a:latin typeface="Georgia"/>
              </a:rPr>
              <a:t>                                            </a:t>
            </a:r>
            <a:r>
              <a:rPr b="1" i="1" lang="sr-CS" sz="2400" spc="-1" strike="noStrike">
                <a:solidFill>
                  <a:srgbClr val="ffff00"/>
                </a:solidFill>
                <a:latin typeface="Georgia"/>
              </a:rPr>
              <a:t>слушала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Нужни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предуслов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квалитетне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комуникације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у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здравственом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тиму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је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двосмерна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комуникација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где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саговорници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одашиљу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примају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поруке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добијају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позитивне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или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негативне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повратне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информације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Georgia"/>
              </a:rPr>
              <a:t>            </a:t>
            </a:r>
            <a:r>
              <a:rPr b="1" i="1" lang="sr-CS" sz="2400" spc="-1" strike="noStrike">
                <a:solidFill>
                  <a:srgbClr val="ffff00"/>
                </a:solidFill>
                <a:latin typeface="Georgia"/>
              </a:rPr>
              <a:t>пошиљалац</a:t>
            </a:r>
            <a:r>
              <a:rPr b="1" i="1" lang="en-US" sz="2400" spc="-1" strike="noStrike">
                <a:solidFill>
                  <a:srgbClr val="ffff00"/>
                </a:solidFill>
                <a:latin typeface="Georgia"/>
              </a:rPr>
              <a:t>                                            </a:t>
            </a:r>
            <a:r>
              <a:rPr b="1" i="1" lang="sr-CS" sz="2400" spc="-1" strike="noStrike">
                <a:solidFill>
                  <a:srgbClr val="ffff00"/>
                </a:solidFill>
                <a:latin typeface="Georgia"/>
              </a:rPr>
              <a:t>слушала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2514600"/>
            <a:ext cx="3200400" cy="53352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457200" y="5715000"/>
            <a:ext cx="3200400" cy="53352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5638680" y="5715000"/>
            <a:ext cx="3200400" cy="53352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5562720" y="2514600"/>
            <a:ext cx="3200400" cy="53352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4191120" y="25909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4191120" y="5715000"/>
            <a:ext cx="1214280" cy="485640"/>
          </a:xfrm>
          <a:prstGeom prst="leftRightArrow">
            <a:avLst>
              <a:gd name="adj1" fmla="val 50000"/>
              <a:gd name="adj2" fmla="val 4977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4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2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8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6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C048-1921-46AA-B094-B41C472B6417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Georgia"/>
              </a:rPr>
              <a:t>Важна</a:t>
            </a:r>
            <a:r>
              <a:rPr b="1" i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400" spc="-1" strike="noStrike">
                <a:solidFill>
                  <a:srgbClr val="ffff00"/>
                </a:solidFill>
                <a:latin typeface="Georgia"/>
              </a:rPr>
              <a:t>карактеристика</a:t>
            </a:r>
            <a:r>
              <a:rPr b="1" i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400" spc="-1" strike="noStrike">
                <a:solidFill>
                  <a:srgbClr val="ffff00"/>
                </a:solidFill>
                <a:latin typeface="Georgia"/>
              </a:rPr>
              <a:t>комуникације</a:t>
            </a:r>
            <a:r>
              <a:rPr b="1" i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400" spc="-1" strike="noStrike">
                <a:solidFill>
                  <a:srgbClr val="ffff00"/>
                </a:solidFill>
                <a:latin typeface="Georgia"/>
              </a:rPr>
              <a:t>је</a:t>
            </a:r>
            <a:r>
              <a:rPr b="1" i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4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1" i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400" spc="-1" strike="noStrike">
                <a:solidFill>
                  <a:srgbClr val="ffff00"/>
                </a:solidFill>
                <a:latin typeface="Georgia"/>
              </a:rPr>
              <a:t>конструктивност</a:t>
            </a:r>
            <a:r>
              <a:rPr b="1" i="1" lang="en-US" sz="24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i="1" lang="sr-CS" sz="2400" spc="-1" strike="noStrike">
                <a:solidFill>
                  <a:srgbClr val="ffff00"/>
                </a:solidFill>
                <a:latin typeface="Georgia"/>
              </a:rPr>
              <a:t>односно</a:t>
            </a:r>
            <a:r>
              <a:rPr b="1" i="1" lang="en-US" sz="24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i="1" lang="sr-CS" sz="2400" spc="-1" strike="noStrike">
                <a:solidFill>
                  <a:srgbClr val="ffff00"/>
                </a:solidFill>
                <a:latin typeface="Georgia"/>
              </a:rPr>
              <a:t>деструктивно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Rectangle 22"/>
          <p:cNvSpPr/>
          <p:nvPr/>
        </p:nvSpPr>
        <p:spPr>
          <a:xfrm>
            <a:off x="533520" y="1447920"/>
            <a:ext cx="40384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Georgia"/>
              </a:rPr>
              <a:t>                </a:t>
            </a:r>
            <a:r>
              <a:rPr b="1" i="1" lang="sr-CS" sz="1800" spc="-1" strike="noStrike">
                <a:solidFill>
                  <a:srgbClr val="ff3300"/>
                </a:solidFill>
                <a:latin typeface="Georgia"/>
              </a:rPr>
              <a:t>Конструк</a:t>
            </a:r>
            <a:r>
              <a:rPr b="1" i="1" lang="en-US" sz="1800" spc="-1" strike="noStrike">
                <a:solidFill>
                  <a:srgbClr val="ff3300"/>
                </a:solidFill>
                <a:latin typeface="Georgia"/>
              </a:rPr>
              <a:t>t</a:t>
            </a:r>
            <a:r>
              <a:rPr b="1" i="1" lang="sr-CS" sz="1800" spc="-1" strike="noStrike">
                <a:solidFill>
                  <a:srgbClr val="ff3300"/>
                </a:solidFill>
                <a:latin typeface="Georgia"/>
              </a:rPr>
              <a:t>ив</a:t>
            </a:r>
            <a:r>
              <a:rPr b="1" i="1" lang="en-US" sz="1800" spc="-1" strike="noStrike">
                <a:solidFill>
                  <a:srgbClr val="ff3300"/>
                </a:solidFill>
                <a:latin typeface="Georgia"/>
              </a:rPr>
              <a:t>n</a:t>
            </a:r>
            <a:r>
              <a:rPr b="1" i="1" lang="sr-CS" sz="1800" spc="-1" strike="noStrike">
                <a:solidFill>
                  <a:srgbClr val="ff3300"/>
                </a:solidFill>
                <a:latin typeface="Georgia"/>
              </a:rPr>
              <a:t>а</a:t>
            </a:r>
            <a:r>
              <a:rPr b="1" i="1" lang="en-US" sz="1800" spc="-1" strike="noStrike">
                <a:solidFill>
                  <a:srgbClr val="ff3300"/>
                </a:solidFill>
                <a:latin typeface="Georgia"/>
              </a:rPr>
              <a:t>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ff3300"/>
                </a:solidFill>
                <a:latin typeface="Georgia"/>
              </a:rPr>
              <a:t>комуни</a:t>
            </a:r>
            <a:r>
              <a:rPr b="1" i="1" lang="en-US" sz="1800" spc="-1" strike="noStrike">
                <a:solidFill>
                  <a:srgbClr val="ff3300"/>
                </a:solidFill>
                <a:latin typeface="Georgia"/>
              </a:rPr>
              <a:t>k</a:t>
            </a:r>
            <a:r>
              <a:rPr b="1" i="1" lang="sr-CS" sz="1800" spc="-1" strike="noStrike">
                <a:solidFill>
                  <a:srgbClr val="ff3300"/>
                </a:solidFill>
                <a:latin typeface="Georgia"/>
              </a:rPr>
              <a:t>ац</a:t>
            </a:r>
            <a:r>
              <a:rPr b="1" i="1" lang="en-US" sz="1800" spc="-1" strike="noStrike">
                <a:solidFill>
                  <a:srgbClr val="ff3300"/>
                </a:solidFill>
                <a:latin typeface="Georgia"/>
              </a:rPr>
              <a:t>i</a:t>
            </a:r>
            <a:r>
              <a:rPr b="1" i="1" lang="sr-CS" sz="1800" spc="-1" strike="noStrike">
                <a:solidFill>
                  <a:srgbClr val="ff3300"/>
                </a:solidFill>
                <a:latin typeface="Georgia"/>
              </a:rPr>
              <a:t>ј</a:t>
            </a:r>
            <a:r>
              <a:rPr b="1" i="1" lang="en-US" sz="1800" spc="-1" strike="noStrike">
                <a:solidFill>
                  <a:srgbClr val="ff3300"/>
                </a:solidFill>
                <a:latin typeface="Georgi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Rectangle 23"/>
          <p:cNvSpPr/>
          <p:nvPr/>
        </p:nvSpPr>
        <p:spPr>
          <a:xfrm>
            <a:off x="4572000" y="1447920"/>
            <a:ext cx="42670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Destruktivn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komunikacij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Rectangle 24"/>
          <p:cNvSpPr/>
          <p:nvPr/>
        </p:nvSpPr>
        <p:spPr>
          <a:xfrm>
            <a:off x="533520" y="2209680"/>
            <a:ext cx="4038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Georgia"/>
              </a:rPr>
              <a:t>креати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Rectangle 25"/>
          <p:cNvSpPr/>
          <p:nvPr/>
        </p:nvSpPr>
        <p:spPr>
          <a:xfrm>
            <a:off x="4572000" y="2209680"/>
            <a:ext cx="4267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Georgia"/>
              </a:rPr>
              <a:t>није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Georgia"/>
              </a:rPr>
              <a:t>креати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Rectangle 26"/>
          <p:cNvSpPr/>
          <p:nvPr/>
        </p:nvSpPr>
        <p:spPr>
          <a:xfrm>
            <a:off x="533520" y="3581280"/>
            <a:ext cx="4038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Georgia"/>
              </a:rPr>
              <a:t>саговорници</a:t>
            </a:r>
            <a:r>
              <a:rPr b="1" lang="en-US" sz="18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ff3300"/>
                </a:solidFill>
                <a:latin typeface="Georgia"/>
              </a:rPr>
              <a:t>се</a:t>
            </a:r>
            <a:r>
              <a:rPr b="1" lang="en-US" sz="18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ff3300"/>
                </a:solidFill>
                <a:latin typeface="Georgia"/>
              </a:rPr>
              <a:t>поштуј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Rectangle 27"/>
          <p:cNvSpPr/>
          <p:nvPr/>
        </p:nvSpPr>
        <p:spPr>
          <a:xfrm>
            <a:off x="4572000" y="2666880"/>
            <a:ext cx="4267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Georgia"/>
              </a:rPr>
              <a:t>лажна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Georgia"/>
              </a:rPr>
              <a:t>ј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Rectangle 28"/>
          <p:cNvSpPr/>
          <p:nvPr/>
        </p:nvSpPr>
        <p:spPr>
          <a:xfrm>
            <a:off x="533520" y="2666880"/>
            <a:ext cx="40384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Georgia"/>
              </a:rPr>
              <a:t>концентрисана</a:t>
            </a:r>
            <a:r>
              <a:rPr b="1" lang="en-US" sz="1800" spc="-1" strike="noStrike">
                <a:solidFill>
                  <a:srgbClr val="ff3300"/>
                </a:solidFill>
                <a:latin typeface="Georgia"/>
              </a:rPr>
              <a:t>  </a:t>
            </a:r>
            <a:r>
              <a:rPr b="1" lang="sr-CS" sz="1800" spc="-1" strike="noStrike">
                <a:solidFill>
                  <a:srgbClr val="ff3300"/>
                </a:solidFill>
                <a:latin typeface="Georgia"/>
              </a:rPr>
              <a:t>на</a:t>
            </a:r>
            <a:r>
              <a:rPr b="1" lang="en-US" sz="18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Georgia"/>
              </a:rPr>
              <a:t>решење</a:t>
            </a:r>
            <a:r>
              <a:rPr b="1" lang="en-US" sz="18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ff3300"/>
                </a:solidFill>
                <a:latin typeface="Georgia"/>
              </a:rPr>
              <a:t>пробле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Rectangle 30"/>
          <p:cNvSpPr/>
          <p:nvPr/>
        </p:nvSpPr>
        <p:spPr>
          <a:xfrm>
            <a:off x="4572000" y="3581280"/>
            <a:ext cx="4267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Georgia"/>
              </a:rPr>
              <a:t>непоштена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Georgia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Georgia"/>
              </a:rPr>
              <a:t>груба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Rectangle 31"/>
          <p:cNvSpPr/>
          <p:nvPr/>
        </p:nvSpPr>
        <p:spPr>
          <a:xfrm>
            <a:off x="533520" y="4267080"/>
            <a:ext cx="4038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Georgia"/>
              </a:rPr>
              <a:t>признају</a:t>
            </a:r>
            <a:r>
              <a:rPr b="1" lang="en-US" sz="18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ff3300"/>
                </a:solidFill>
                <a:latin typeface="Georgia"/>
              </a:rPr>
              <a:t>се</a:t>
            </a:r>
            <a:r>
              <a:rPr b="1" lang="en-US" sz="18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ff3300"/>
                </a:solidFill>
                <a:latin typeface="Georgia"/>
              </a:rPr>
              <a:t>различит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Rectangle 32"/>
          <p:cNvSpPr/>
          <p:nvPr/>
        </p:nvSpPr>
        <p:spPr>
          <a:xfrm>
            <a:off x="533520" y="4952880"/>
            <a:ext cx="4038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Georgia"/>
              </a:rPr>
              <a:t>дозвољава</a:t>
            </a:r>
            <a:r>
              <a:rPr b="1" lang="en-US" sz="18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ff3300"/>
                </a:solidFill>
                <a:latin typeface="Georgia"/>
              </a:rPr>
              <a:t>се</a:t>
            </a:r>
            <a:r>
              <a:rPr b="1" lang="en-US" sz="18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ff3300"/>
                </a:solidFill>
                <a:latin typeface="Georgia"/>
              </a:rPr>
              <a:t>неслагањ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Rectangle 33"/>
          <p:cNvSpPr/>
          <p:nvPr/>
        </p:nvSpPr>
        <p:spPr>
          <a:xfrm>
            <a:off x="533520" y="5638680"/>
            <a:ext cx="40384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Georgia"/>
              </a:rPr>
              <a:t>разговор</a:t>
            </a:r>
            <a:r>
              <a:rPr b="1" lang="en-US" sz="18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ff3300"/>
                </a:solidFill>
                <a:latin typeface="Georgia"/>
              </a:rPr>
              <a:t>је</a:t>
            </a:r>
            <a:r>
              <a:rPr b="1" lang="en-US" sz="18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ff3300"/>
                </a:solidFill>
                <a:latin typeface="Georgia"/>
              </a:rPr>
              <a:t>отворен</a:t>
            </a:r>
            <a:r>
              <a:rPr b="1" lang="en-US" sz="18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ff3300"/>
                </a:solidFill>
                <a:latin typeface="Georgia"/>
              </a:rPr>
              <a:t>и</a:t>
            </a:r>
            <a:r>
              <a:rPr b="1" lang="en-US" sz="18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ff3300"/>
                </a:solidFill>
                <a:latin typeface="Georgia"/>
              </a:rPr>
              <a:t>тактича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Rectangle 34"/>
          <p:cNvSpPr/>
          <p:nvPr/>
        </p:nvSpPr>
        <p:spPr>
          <a:xfrm>
            <a:off x="4572000" y="4267080"/>
            <a:ext cx="426708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Georgia"/>
              </a:rPr>
              <a:t>троши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Georgia"/>
              </a:rPr>
              <a:t>се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Georgia"/>
              </a:rPr>
              <a:t>енергија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Georgia"/>
              </a:rPr>
              <a:t>на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Georgia"/>
              </a:rPr>
              <a:t>оптуживањ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Georgia"/>
              </a:rPr>
              <a:t>вређањ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Georgia"/>
              </a:rPr>
              <a:t>збуњивањ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Georgia"/>
              </a:rPr>
              <a:t>игнорисањ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A277-59EA-47F4-9312-81E8D904981E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Саговорник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се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обезвређује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исмејава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присиљава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на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одбрану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чиме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се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погоршавају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међуљудски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 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односи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а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уместо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решавања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конкретног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проблема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пораз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саговорника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се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схвата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као</a:t>
            </a: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800" spc="-1" strike="noStrike">
                <a:solidFill>
                  <a:srgbClr val="ffff00"/>
                </a:solidFill>
                <a:latin typeface="Georgia"/>
              </a:rPr>
              <a:t>успе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0D7B-2DFE-4339-82E8-09948573E0E0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0" y="17521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брзим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решавањем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несугласица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пробле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двосмерном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комуникациј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слушањ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редовним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извештајима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о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учињен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редовним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састанц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прихватањем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разлика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у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мишљењ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придржавањем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договорено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уважавењ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отвореношћ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подршк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поверењ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усклађивањем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тимског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приступа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здравственој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Georgia"/>
              </a:rPr>
              <a:t>нез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914400" y="457200"/>
            <a:ext cx="7620120" cy="990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Georgia"/>
              </a:rPr>
              <a:t>РЕШИМО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Georgia"/>
              </a:rPr>
              <a:t>ТО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Šibenik, 19. lipnja 2009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AB37-1281-448B-A063-2FA96B7738C6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5"/>
          <p:cNvSpPr/>
          <p:nvPr/>
        </p:nvSpPr>
        <p:spPr>
          <a:xfrm>
            <a:off x="1676520" y="685800"/>
            <a:ext cx="6553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1295280" y="1447920"/>
            <a:ext cx="70106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00"/>
                </a:solidFill>
                <a:latin typeface="Georgia"/>
              </a:rPr>
              <a:t>КОМУНИКАЦИЈА</a:t>
            </a:r>
            <a:r>
              <a:rPr b="1" i="1" lang="en-US" sz="40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4000"/>
            </a:br>
            <a:r>
              <a:rPr b="1" i="1" lang="sr-CS" sz="4000" spc="-1" strike="noStrike">
                <a:solidFill>
                  <a:srgbClr val="000000"/>
                </a:solidFill>
                <a:latin typeface="Georgia"/>
              </a:rPr>
              <a:t>У</a:t>
            </a:r>
            <a:r>
              <a:rPr b="1" i="1" lang="en-US" sz="4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sr-CS" sz="4000" spc="-1" strike="noStrike">
                <a:solidFill>
                  <a:srgbClr val="000000"/>
                </a:solidFill>
                <a:latin typeface="Georgia"/>
              </a:rPr>
              <a:t>ЗДРАВСТВ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4952880" y="51814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600" spc="-1" strike="noStrike">
                <a:solidFill>
                  <a:srgbClr val="000000"/>
                </a:solidFill>
                <a:latin typeface="Georgia"/>
              </a:rPr>
              <a:t>Доц</a:t>
            </a:r>
            <a:r>
              <a:rPr b="1" i="1" lang="en-US" sz="16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1" i="1" lang="sr-CS" sz="1600" spc="-1" strike="noStrike">
                <a:solidFill>
                  <a:srgbClr val="000000"/>
                </a:solidFill>
                <a:latin typeface="Georgia"/>
              </a:rPr>
              <a:t>Др</a:t>
            </a:r>
            <a:r>
              <a:rPr b="1" i="1" lang="en-US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sr-CS" sz="1600" spc="-1" strike="noStrike">
                <a:solidFill>
                  <a:srgbClr val="000000"/>
                </a:solidFill>
                <a:latin typeface="Georgia"/>
              </a:rPr>
              <a:t>Владимир</a:t>
            </a:r>
            <a:r>
              <a:rPr b="1" i="1" lang="en-US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sr-CS" sz="1600" spc="-1" strike="noStrike">
                <a:solidFill>
                  <a:srgbClr val="000000"/>
                </a:solidFill>
                <a:latin typeface="Georgia"/>
              </a:rPr>
              <a:t>Јањић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72A2-210C-464B-97DA-2DE393066118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ff3300"/>
                </a:solidFill>
                <a:latin typeface="Georgia"/>
              </a:rPr>
              <a:t>НЕ</a:t>
            </a:r>
            <a:r>
              <a:rPr b="1" i="1" lang="en-US" sz="32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3300"/>
                </a:solidFill>
                <a:latin typeface="Georgia"/>
              </a:rPr>
              <a:t>ЗАБОРАВИТЕ</a:t>
            </a:r>
            <a:r>
              <a:rPr b="1" i="1" lang="en-US" sz="3200" spc="-1" strike="noStrike">
                <a:solidFill>
                  <a:srgbClr val="ff3300"/>
                </a:solidFill>
                <a:latin typeface="Georgia"/>
              </a:rPr>
              <a:t> 10 </a:t>
            </a:r>
            <a:r>
              <a:rPr b="1" i="1" lang="sr-CS" sz="3200" spc="-1" strike="noStrike">
                <a:solidFill>
                  <a:srgbClr val="ff3300"/>
                </a:solidFill>
                <a:latin typeface="Georgia"/>
              </a:rPr>
              <a:t>речи</a:t>
            </a:r>
            <a:r>
              <a:rPr b="1" i="1" lang="en-US" sz="32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3300"/>
                </a:solidFill>
                <a:latin typeface="Georgia"/>
              </a:rPr>
              <a:t>и</a:t>
            </a:r>
            <a:r>
              <a:rPr b="1" i="1" lang="en-US" sz="32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3300"/>
                </a:solidFill>
                <a:latin typeface="Georgia"/>
              </a:rPr>
              <a:t>фраза</a:t>
            </a:r>
            <a:r>
              <a:rPr b="1" i="1" lang="en-US" sz="32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3300"/>
                </a:solidFill>
                <a:latin typeface="Georgia"/>
              </a:rPr>
              <a:t>које</a:t>
            </a:r>
            <a:r>
              <a:rPr b="1" i="1" lang="en-US" sz="32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3300"/>
                </a:solidFill>
                <a:latin typeface="Georgia"/>
              </a:rPr>
              <a:t>би</a:t>
            </a:r>
            <a:r>
              <a:rPr b="1" i="1" lang="en-US" sz="32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3300"/>
                </a:solidFill>
                <a:latin typeface="Georgia"/>
              </a:rPr>
              <a:t>требали</a:t>
            </a:r>
            <a:r>
              <a:rPr b="1" i="1" lang="en-US" sz="32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3300"/>
                </a:solidFill>
                <a:latin typeface="Georgia"/>
              </a:rPr>
              <a:t>користити</a:t>
            </a:r>
            <a:r>
              <a:rPr b="1" i="1" lang="en-US" sz="32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3300"/>
                </a:solidFill>
                <a:latin typeface="Georgia"/>
              </a:rPr>
              <a:t>најмање</a:t>
            </a:r>
            <a:br>
              <a:rPr sz="3200"/>
            </a:br>
            <a:r>
              <a:rPr b="1" i="1" lang="en-US" sz="32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3300"/>
                </a:solidFill>
                <a:latin typeface="Georgia"/>
              </a:rPr>
              <a:t>једном</a:t>
            </a:r>
            <a:r>
              <a:rPr b="1" i="1" lang="en-US" sz="32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3300"/>
                </a:solidFill>
                <a:latin typeface="Georgia"/>
              </a:rPr>
              <a:t>дневно</a:t>
            </a:r>
            <a:r>
              <a:rPr b="1" i="1" lang="en-US" sz="3200" spc="-1" strike="noStrike">
                <a:solidFill>
                  <a:srgbClr val="ff3300"/>
                </a:solidFill>
                <a:latin typeface="Georgia"/>
              </a:rPr>
              <a:t>!</a:t>
            </a:r>
            <a:endParaRPr b="0" lang="en-US" sz="3200" spc="-1" strike="noStrike">
              <a:solidFill>
                <a:srgbClr val="e5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5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57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7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57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5BD9-1882-47D3-9551-AE0BF1396318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9296280" cy="63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ХВАЛА</a:t>
            </a:r>
            <a:r>
              <a:rPr b="1" i="1" lang="en-US" sz="2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ТИ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(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захвалит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за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пажњу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бригу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и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помоћ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    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других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МОЛИМ</a:t>
            </a:r>
            <a:r>
              <a:rPr b="1" i="1" lang="en-US" sz="2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Т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(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исказујт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поштовањ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БРАВО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(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похвалит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МОГУ</a:t>
            </a:r>
            <a:r>
              <a:rPr b="1" i="1" lang="en-US" sz="2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ЛИ</a:t>
            </a:r>
            <a:r>
              <a:rPr b="1" i="1" lang="en-US" sz="2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ТИ</a:t>
            </a:r>
            <a:r>
              <a:rPr b="1" i="1" lang="en-US" sz="2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ПОМОЋИ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(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н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чекајт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да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вас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питају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понудит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сами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помоћ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ТО</a:t>
            </a:r>
            <a:r>
              <a:rPr b="1" i="1" lang="en-US" sz="2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ЈЕ</a:t>
            </a:r>
            <a:r>
              <a:rPr b="1" i="1" lang="en-US" sz="2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СТВАРНО</a:t>
            </a:r>
            <a:r>
              <a:rPr b="1" i="1" lang="en-US" sz="2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ЛЕПО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(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примећујт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позитивно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ОПРОСТИ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(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понекад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и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ненамерно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повредимо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некога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а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ако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желит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увек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бити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у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праву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живит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сами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ПРИЧАЈТЕ</a:t>
            </a:r>
            <a:r>
              <a:rPr b="1" i="1" lang="en-US" sz="2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МИ</a:t>
            </a:r>
            <a:r>
              <a:rPr b="1" i="1" lang="en-US" sz="2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О</a:t>
            </a:r>
            <a:r>
              <a:rPr b="1" i="1" lang="en-US" sz="2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ТОМ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(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покажит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заинтересованост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ХАЈМО</a:t>
            </a:r>
            <a:r>
              <a:rPr b="1" i="1" lang="en-US" sz="2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ЗАЈЕДНО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(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дружит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с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нудит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другима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прилику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да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им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посветит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свој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врем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ЗАГРЛИТ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(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н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заборавит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на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важност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додира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ВОЛИМ</a:t>
            </a:r>
            <a:r>
              <a:rPr b="1" i="1" lang="en-US" sz="2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00"/>
                </a:solidFill>
                <a:latin typeface="Georgia"/>
              </a:rPr>
              <a:t>Т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(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н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предпоставит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да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то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друга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особа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зна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реците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sr-CS" sz="2200" spc="-1" strike="noStrike">
                <a:solidFill>
                  <a:srgbClr val="ffffff"/>
                </a:solidFill>
                <a:latin typeface="Georgia"/>
              </a:rPr>
              <a:t>јој</a:t>
            </a:r>
            <a:r>
              <a:rPr b="1" i="1" lang="en-US" sz="2200" spc="-1" strike="noStrike">
                <a:solidFill>
                  <a:srgbClr val="ffffff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1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1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10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10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10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10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10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10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1000" fill="hold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1000" fill="hold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1000" fill="hold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1000" fill="hold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1000" fill="hold"/>
                                        <p:tgtEl>
                                          <p:spTgt spid="2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1000" fill="hold"/>
                                        <p:tgtEl>
                                          <p:spTgt spid="2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5C2D-3F5A-46CF-B278-5B266D09AEEB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590920"/>
            <a:ext cx="84582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ffffff"/>
                </a:solidFill>
                <a:latin typeface="Georgia"/>
              </a:rPr>
              <a:t>Законске обавезе у вези са комуникацијом са пацијентом</a:t>
            </a:r>
            <a:endParaRPr b="0" lang="en-US" sz="3600" spc="-1" strike="noStrike">
              <a:solidFill>
                <a:srgbClr val="e5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5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65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5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65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Правни</a:t>
            </a: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прописи</a:t>
            </a:r>
            <a:endParaRPr b="0" lang="en-US" sz="28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Регулишу</a:t>
            </a:r>
            <a:r>
              <a:rPr b="0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у</a:t>
            </a:r>
            <a:r>
              <a:rPr b="0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најширем</a:t>
            </a:r>
            <a:r>
              <a:rPr b="0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смислу</a:t>
            </a:r>
            <a:r>
              <a:rPr b="0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i="1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рад</a:t>
            </a:r>
            <a:r>
              <a:rPr b="0" i="1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i="1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на</a:t>
            </a:r>
            <a:r>
              <a:rPr b="0" i="1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i="1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заштити</a:t>
            </a:r>
            <a:r>
              <a:rPr b="0" i="1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i="1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и</a:t>
            </a:r>
            <a:r>
              <a:rPr b="0" i="1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i="1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унапређењу</a:t>
            </a:r>
            <a:r>
              <a:rPr b="0" i="1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i="1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здравља</a:t>
            </a:r>
            <a:r>
              <a:rPr b="0" i="1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, </a:t>
            </a:r>
            <a:r>
              <a:rPr b="0" i="1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тј</a:t>
            </a:r>
            <a:r>
              <a:rPr b="0" i="1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. </a:t>
            </a:r>
            <a:r>
              <a:rPr b="0" i="1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подручје</a:t>
            </a:r>
            <a:r>
              <a:rPr b="0" i="1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i="1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рада</a:t>
            </a:r>
            <a:r>
              <a:rPr b="0" i="1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i="1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и</a:t>
            </a:r>
            <a:r>
              <a:rPr b="0" i="1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i="1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активности</a:t>
            </a:r>
            <a:r>
              <a:rPr b="0" i="1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i="1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медицинских</a:t>
            </a:r>
            <a:r>
              <a:rPr b="0" i="1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i="1" lang="sr-CS" sz="2400" spc="-1" strike="noStrike" u="sng">
                <a:solidFill>
                  <a:srgbClr val="ffffff"/>
                </a:solidFill>
                <a:uFillTx/>
                <a:latin typeface="Tahoma"/>
              </a:rPr>
              <a:t>рад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Мењају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се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под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утицајем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друштвених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економских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културних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других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прилика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Друштвена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заједница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настоји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да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CS" sz="2400" spc="-1" strike="noStrike">
                <a:solidFill>
                  <a:srgbClr val="ffffff"/>
                </a:solidFill>
                <a:latin typeface="Tahoma"/>
              </a:rPr>
              <a:t>заштити</a:t>
            </a:r>
            <a:r>
              <a:rPr b="0" i="1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CS" sz="2400" spc="-1" strike="noStrike">
                <a:solidFill>
                  <a:srgbClr val="ffffff"/>
                </a:solidFill>
                <a:latin typeface="Tahoma"/>
              </a:rPr>
              <a:t>права</a:t>
            </a:r>
            <a:r>
              <a:rPr b="0" i="1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i="1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CS" sz="2400" spc="-1" strike="noStrike">
                <a:solidFill>
                  <a:srgbClr val="ffffff"/>
                </a:solidFill>
                <a:latin typeface="Tahoma"/>
              </a:rPr>
              <a:t>интересе</a:t>
            </a:r>
            <a:r>
              <a:rPr b="0" i="1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CS" sz="2400" spc="-1" strike="noStrike">
                <a:solidFill>
                  <a:srgbClr val="ffffff"/>
                </a:solidFill>
                <a:latin typeface="Tahoma"/>
              </a:rPr>
              <a:t>својих</a:t>
            </a:r>
            <a:r>
              <a:rPr b="0" i="1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CS" sz="2400" spc="-1" strike="noStrike">
                <a:solidFill>
                  <a:srgbClr val="ffffff"/>
                </a:solidFill>
                <a:latin typeface="Tahoma"/>
              </a:rPr>
              <a:t>члан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Успоставља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се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CS" sz="2400" spc="-1" strike="noStrike">
                <a:solidFill>
                  <a:srgbClr val="ffffff"/>
                </a:solidFill>
                <a:latin typeface="Tahoma"/>
              </a:rPr>
              <a:t>спољашња</a:t>
            </a:r>
            <a:r>
              <a:rPr b="0" i="1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CS" sz="2400" spc="-1" strike="noStrike">
                <a:solidFill>
                  <a:srgbClr val="ffffff"/>
                </a:solidFill>
                <a:latin typeface="Tahoma"/>
              </a:rPr>
              <a:t>контрола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над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радом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медицинских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рад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ЗАКОН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ЗДРАВСТВЕНОЈ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ЗАШТИ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ЗАКОН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ПРАВИМА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ПАЦИЈЕН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ЗАКОН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ПРАВИМ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ДУШЕВНО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ОБОЛЕЛИХ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Л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КРИВИЧНИ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ЗАКОН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7268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ЗАКОНСКА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АВА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БАВЕЗЕ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ЗДРАВСТВЕНИХ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РАДНИКА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ЗДРАВСТВЕНИМ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СТАНОВАМА</a:t>
            </a:r>
            <a:endParaRPr b="0" lang="en-US" sz="32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Колико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смо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упознати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са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законским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правима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обавезама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?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Колико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су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пацијенти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у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здравственим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установама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упознати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са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правима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обавезама</a:t>
            </a:r>
            <a:r>
              <a:rPr b="0" lang="hr-HR" sz="3200" spc="-1" strike="noStrike">
                <a:solidFill>
                  <a:srgbClr val="ff0000"/>
                </a:solidFill>
                <a:latin typeface="Tahoma"/>
              </a:rPr>
              <a:t>?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КОН О ПРАВИМА ПАЦИЈЕНАТА</a:t>
            </a:r>
            <a:endParaRPr b="0" lang="en-US" sz="28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18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вим законом уређују се права пацијената приликом коришћења здравствене заштите, начин остваривања права и начин заштите тих права, као и друга питања везана за права, обавезе и одговорности пацијена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Пацијенту се гарантује једнако право на квалитетну и континуирану здравствену заштит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Остваривање овог права заснива се на партнерском односу пацијента као примаоца здравствених услуга и здравственог радника као даваоца здравствених услуг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Партнерски однос подразумева међусобно поверење и поштовање између пацијента и здравственог радника на свим нивоима здравствене заштит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Закон се примењује на све здравствене установе, приватну праксу и друга правна лиц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КОН О ПРАВИМА ПАЦИЈЕНАТА</a:t>
            </a:r>
            <a:endParaRPr b="0" lang="en-US" sz="28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0920" y="83772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sr-RS" sz="2200" spc="-1" strike="noStrike">
                <a:solidFill>
                  <a:srgbClr val="ffffff"/>
                </a:solidFill>
                <a:latin typeface="Tahoma"/>
              </a:rPr>
              <a:t>ПРАВО НА ОБАВЕШТЕЊЕ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ацијент </a:t>
            </a:r>
            <a:r>
              <a:rPr b="1" lang="ru-RU" sz="2200" spc="-1" strike="noStrike">
                <a:solidFill>
                  <a:srgbClr val="ff0000"/>
                </a:solidFill>
                <a:latin typeface="Tahoma"/>
              </a:rPr>
              <a:t>има право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да од надлежног здравственог радника благовремено добије</a:t>
            </a:r>
            <a:r>
              <a:rPr b="0" lang="sr-Latn-R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Tahoma"/>
              </a:rPr>
              <a:t>обавештење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, које му је потребно како би донео одлуку да пристане или не пристане на</a:t>
            </a:r>
            <a:r>
              <a:rPr b="0" lang="sr-Latn-R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редложену медицинску меру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бавештење из става 1. овог члана обухвата: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1) дијагнозу и прогнозу болести;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2) кратак опис, циљ и корист од предложене медицинске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мере,   време трајања и могуће последице предузимања,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дносно непредузимања предложене медицинске мере;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3) врсту и вероватноћу могућих ризика, болне и друге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споредне или трајне последице;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4) алтернативне методе лечења;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5) могуће промене пацијентовог стања после предузимања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редложене медицинске мере, као и могуће нужне промене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у начину живота пацијената;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6) дејство лекова и могуће споредне последице тог дејства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КОН О ПРАВИМА ПАЦИЈЕНАТА</a:t>
            </a:r>
            <a:endParaRPr b="0" lang="en-US" sz="28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ПРАВО НА ПРИСТАНАК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ацијент има право да слободно одлучује о свему што се тиче његовог живота и</a:t>
            </a:r>
            <a:r>
              <a:rPr b="0" lang="sr-Latn-R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здравља, осим у случајевима када то директно угрожава живот и здравље других лица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Без пристанка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ацијента не сме се, по правилу, над њим предузети никаква медицинска</a:t>
            </a:r>
            <a:r>
              <a:rPr b="0" lang="sr-Latn-R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мера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ацијент може дати пристанак на предложену медицинску меру изричито (усмено или писмено), односно прећутно (ако се није изричито противио)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ацијент, који је способан за расуђивање,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има право да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редложену медицинску меру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одбије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, чак и у случају када се њоме спасава или одржава његов живот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Надлежни здравствени радник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дужан је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да пацијенту укаже на последице његове одлуке о одбијању предложене медицинске мере, и да о томе од пацијента затражи писмену изјаву која се мора чувати у медицинској документацији, а ако пацијент одбије давање писмене изјаве, о томе ће сачинити службену белешку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КОН О ПРАВИМА ПАЦИЈЕНАТА</a:t>
            </a:r>
            <a:endParaRPr b="0" lang="en-US" sz="28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2280" y="907920"/>
            <a:ext cx="883944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ПРАВО НА ПРИСТАНАК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Над пацијентом који је без свести, или из других разлога није у стању да саопшти свој пристанак, хитна медицинска мера може се предузети и без његовог пристанка, о чему ће се обавестити чланови уже породице, увек када је то могућ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Медицинска мера из става 1. овог члана у здравственој установи, предузима се на основу конзилијарног налаз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КОН О ПРАВИМА ПАЦИЈЕНАТА</a:t>
            </a:r>
            <a:endParaRPr b="0" lang="en-US" sz="28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ПРАВО ДА НА СОПСТВЕНУ ОДГОВОРНОСТ НАПУСТ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СТАЦИОНАРНУ ЗДРАВСТВЕНУ  УСТАНОВ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(1) Пацијент има право да на сопствену одговорност напусти стационарну здравствену установу, осим у случајевима прописаним посебним законом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(2) О намери напуштања стационарне здравствене установе из става 1. овог члана, пацијент је дужан да дâ писмену изјаву, која се чува у медицинској документацији пацијент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(3) Податак о напуштању стационарне здравствене установе без најаве пацијента, надлежни здравствени радник обавезан је да упише у медицинску документацију пацијента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92C2-A4AC-48EF-8EA3-C4191A3504F5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“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Слуша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се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али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се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н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e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чује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Чује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с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e,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али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се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н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e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разуме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Разуме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с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e,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али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се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н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e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прихва</a:t>
            </a:r>
            <a:r>
              <a:rPr b="1" i="1" lang="sr-Latn-CS" sz="3200" spc="-1" strike="noStrike">
                <a:solidFill>
                  <a:srgbClr val="ffff00"/>
                </a:solidFill>
                <a:latin typeface="Georgia"/>
              </a:rPr>
              <a:t>t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Прихва</a:t>
            </a:r>
            <a:r>
              <a:rPr b="1" i="1" lang="sr-Latn-CS" sz="3200" spc="-1" strike="noStrike">
                <a:solidFill>
                  <a:srgbClr val="ffff00"/>
                </a:solidFill>
                <a:latin typeface="Georgia"/>
              </a:rPr>
              <a:t>t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a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се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али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се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н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e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практ</a:t>
            </a:r>
            <a:r>
              <a:rPr b="1" i="1" lang="sr-Latn-CS" sz="3200" spc="-1" strike="noStrike">
                <a:solidFill>
                  <a:srgbClr val="ffff00"/>
                </a:solidFill>
                <a:latin typeface="Georgia"/>
              </a:rPr>
              <a:t>ikuje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Практи</a:t>
            </a:r>
            <a:r>
              <a:rPr b="1" i="1" lang="sr-Latn-CS" sz="3200" spc="-1" strike="noStrike">
                <a:solidFill>
                  <a:srgbClr val="ffff00"/>
                </a:solidFill>
                <a:latin typeface="Georgia"/>
              </a:rPr>
              <a:t>kuje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се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но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к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o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лико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ffff00"/>
                </a:solidFill>
                <a:latin typeface="Georgia"/>
              </a:rPr>
              <a:t>дуго</a:t>
            </a: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?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Georgia"/>
              </a:rPr>
              <a:t>Konrad Lorenz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3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Šibenik, 19. lipnja 2009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245C-835E-4781-8302-CE9A8F324F79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-1981080" y="93600"/>
            <a:ext cx="13716000" cy="67644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6"/>
          <p:cNvSpPr/>
          <p:nvPr/>
        </p:nvSpPr>
        <p:spPr>
          <a:xfrm>
            <a:off x="1752480" y="3733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66"/>
                </a:solidFill>
                <a:latin typeface="Georgia"/>
              </a:rPr>
              <a:t>Оваква</a:t>
            </a:r>
            <a:r>
              <a:rPr b="1" i="1" lang="en-US" sz="32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000066"/>
                </a:solidFill>
                <a:latin typeface="Georgia"/>
              </a:rPr>
              <a:t>комуникација</a:t>
            </a:r>
            <a:r>
              <a:rPr b="1" i="1" lang="en-US" sz="3200" spc="-1" strike="noStrike">
                <a:solidFill>
                  <a:srgbClr val="000066"/>
                </a:solidFill>
                <a:latin typeface="Georgia"/>
              </a:rPr>
              <a:t> </a:t>
            </a:r>
            <a:br>
              <a:rPr sz="3200"/>
            </a:br>
            <a:r>
              <a:rPr b="1" i="1" lang="sr-CS" sz="3200" spc="-1" strike="noStrike">
                <a:solidFill>
                  <a:srgbClr val="000066"/>
                </a:solidFill>
                <a:latin typeface="Georgia"/>
              </a:rPr>
              <a:t>није</a:t>
            </a:r>
            <a:r>
              <a:rPr b="1" i="1" lang="en-US" sz="32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000066"/>
                </a:solidFill>
                <a:latin typeface="Georgia"/>
              </a:rPr>
              <a:t>ником</a:t>
            </a:r>
            <a:r>
              <a:rPr b="1" i="1" lang="en-US" sz="32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000066"/>
                </a:solidFill>
                <a:latin typeface="Georgia"/>
              </a:rPr>
              <a:t>потребна</a:t>
            </a:r>
            <a:r>
              <a:rPr b="1" i="1" lang="en-US" sz="3200" spc="-1" strike="noStrike">
                <a:solidFill>
                  <a:srgbClr val="000066"/>
                </a:solidFill>
                <a:latin typeface="Georgia"/>
              </a:rPr>
              <a:t> ………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255" name="Picture 5" descr=""/>
          <p:cNvPicPr/>
          <p:nvPr/>
        </p:nvPicPr>
        <p:blipFill>
          <a:blip r:embed="rId1"/>
          <a:stretch/>
        </p:blipFill>
        <p:spPr>
          <a:xfrm>
            <a:off x="-1676520" y="76320"/>
            <a:ext cx="1082052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6"/>
          <p:cNvSpPr/>
          <p:nvPr/>
        </p:nvSpPr>
        <p:spPr>
          <a:xfrm>
            <a:off x="6324480" y="2819520"/>
            <a:ext cx="27432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Georgia"/>
              </a:rPr>
              <a:t>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66"/>
                </a:solidFill>
                <a:latin typeface="Georgia"/>
              </a:rPr>
              <a:t>јер</a:t>
            </a:r>
            <a:r>
              <a:rPr b="1" i="1" lang="en-US" sz="32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000066"/>
                </a:solidFill>
                <a:latin typeface="Georgia"/>
              </a:rPr>
              <a:t>ћ</a:t>
            </a:r>
            <a:r>
              <a:rPr b="1" i="1" lang="en-US" sz="3200" spc="-1" strike="noStrike">
                <a:solidFill>
                  <a:srgbClr val="000066"/>
                </a:solidFill>
                <a:latin typeface="Georgia"/>
              </a:rPr>
              <a:t>e </a:t>
            </a:r>
            <a:r>
              <a:rPr b="1" i="1" lang="sr-CS" sz="3200" spc="-1" strike="noStrike">
                <a:solidFill>
                  <a:srgbClr val="000066"/>
                </a:solidFill>
                <a:latin typeface="Georgia"/>
              </a:rPr>
              <a:t>на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000066"/>
                </a:solidFill>
                <a:latin typeface="Georgia"/>
              </a:rPr>
              <a:t>претворит</a:t>
            </a:r>
            <a:r>
              <a:rPr b="1" i="1" lang="en-US" sz="3200" spc="-1" strike="noStrike">
                <a:solidFill>
                  <a:srgbClr val="000066"/>
                </a:solidFill>
                <a:latin typeface="Georgia"/>
              </a:rPr>
              <a:t>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66"/>
                </a:solidFill>
                <a:latin typeface="Georgia"/>
              </a:rPr>
              <a:t>у</a:t>
            </a:r>
            <a:r>
              <a:rPr b="1" i="1" lang="en-US" sz="32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i="1" lang="sr-CS" sz="3200" spc="-1" strike="noStrike">
                <a:solidFill>
                  <a:srgbClr val="990000"/>
                </a:solidFill>
                <a:latin typeface="Georgia"/>
              </a:rPr>
              <a:t>ОВ</a:t>
            </a:r>
            <a:r>
              <a:rPr b="1" i="1" lang="en-US" sz="3200" spc="-1" strike="noStrike">
                <a:solidFill>
                  <a:srgbClr val="990000"/>
                </a:solidFill>
                <a:latin typeface="Georgia"/>
              </a:rPr>
              <a:t>O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FABC-8C2F-47A8-B184-65A2540769A6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Добра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комуникација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представља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предуслов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квалитетног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професионалног</a:t>
            </a:r>
            <a:r>
              <a:rPr b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односа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 rot="6105000">
            <a:off x="2405160" y="2166120"/>
            <a:ext cx="1617840" cy="485640"/>
          </a:xfrm>
          <a:custGeom>
            <a:avLst/>
            <a:gdLst>
              <a:gd name="textAreaLeft" fmla="*/ 252720 w 1617840"/>
              <a:gd name="textAreaRight" fmla="*/ 1415880 w 161784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AutoShape 5"/>
          <p:cNvSpPr/>
          <p:nvPr/>
        </p:nvSpPr>
        <p:spPr>
          <a:xfrm rot="4543800">
            <a:off x="5529600" y="2166120"/>
            <a:ext cx="1617840" cy="486000"/>
          </a:xfrm>
          <a:custGeom>
            <a:avLst/>
            <a:gdLst>
              <a:gd name="textAreaLeft" fmla="*/ 252720 w 1617840"/>
              <a:gd name="textAreaRight" fmla="*/ 1415880 w 161784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762120" y="4114800"/>
            <a:ext cx="3581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Georgia"/>
              </a:rPr>
              <a:t>Здравствени</a:t>
            </a:r>
            <a:r>
              <a:rPr b="1" i="1" lang="sr-Latn-C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2400" spc="-1" strike="noStrike">
                <a:solidFill>
                  <a:srgbClr val="ffff00"/>
                </a:solidFill>
                <a:latin typeface="Georgia"/>
              </a:rPr>
              <a:t>радни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4800600" y="4114800"/>
            <a:ext cx="3581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Georgia"/>
              </a:rPr>
              <a:t>болесник</a:t>
            </a:r>
            <a:r>
              <a:rPr b="1" i="1" lang="en-US" sz="2400" spc="-1" strike="noStrike">
                <a:solidFill>
                  <a:srgbClr val="ffff00"/>
                </a:solidFill>
                <a:latin typeface="Georgia"/>
              </a:rPr>
              <a:t> / </a:t>
            </a:r>
            <a:r>
              <a:rPr b="1" i="1" lang="sr-CS" sz="2400" spc="-1" strike="noStrike">
                <a:solidFill>
                  <a:srgbClr val="ffff00"/>
                </a:solidFill>
                <a:latin typeface="Georgia"/>
              </a:rPr>
              <a:t>штићен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"/>
          <p:cNvSpPr/>
          <p:nvPr/>
        </p:nvSpPr>
        <p:spPr>
          <a:xfrm>
            <a:off x="60948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Зашто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је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важна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добра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комуникац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у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здравству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0" y="17521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комуникација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ј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темељ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сваког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међуљудског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одно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комуникцијом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саопштавамо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себ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други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постижемо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бољи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однос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поверењ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болесн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постижемо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бољи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однос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с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другим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запосленим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т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угодно окружење на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радном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мјест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добијамо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бољ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резултат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рада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здравствен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нег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за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болесн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добијамо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већ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задовољство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рад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165E-D8BA-4FC3-837C-729BDDB7BAB1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ffff00"/>
                </a:solidFill>
                <a:latin typeface="Georgia"/>
              </a:rPr>
              <a:t>Знамо</a:t>
            </a:r>
            <a:r>
              <a:rPr b="1" i="1" lang="en-US" sz="4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4000" spc="-1" strike="noStrike">
                <a:solidFill>
                  <a:srgbClr val="ffff00"/>
                </a:solidFill>
                <a:latin typeface="Georgia"/>
              </a:rPr>
              <a:t>ли</a:t>
            </a:r>
            <a:r>
              <a:rPr b="1" i="1" lang="en-US" sz="4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4000" spc="-1" strike="noStrike">
                <a:solidFill>
                  <a:srgbClr val="ffff00"/>
                </a:solidFill>
                <a:latin typeface="Georgia"/>
              </a:rPr>
              <a:t>комуницирати</a:t>
            </a:r>
            <a:r>
              <a:rPr b="1" i="1" lang="en-US" sz="4000" spc="-1" strike="noStrike">
                <a:solidFill>
                  <a:srgbClr val="ffff00"/>
                </a:solidFill>
                <a:latin typeface="Georgia"/>
              </a:rPr>
              <a:t> ?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BC95-32B5-4A6E-A0C5-4EFA0A48F372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458200" cy="18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Најважније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особине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здравственог</a:t>
            </a:r>
            <a:r>
              <a:rPr b="1" lang="sr-Latn-C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радника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потребне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за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успешну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комуникацију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стварање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добрих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односа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у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раду</a:t>
            </a:r>
            <a:r>
              <a:rPr b="1" lang="sr-Latn-C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са</a:t>
            </a:r>
            <a:r>
              <a:rPr b="1" lang="sr-Latn-C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пацијентима</a:t>
            </a:r>
            <a:r>
              <a:rPr b="1" lang="sr-Latn-C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су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овореност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срдачно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самопоуздањ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избегавање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стереотипија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предрасу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емпат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активно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слушањ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асертивно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Georgia"/>
              </a:rPr>
              <a:t>персуаз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7C68-B728-49DF-9809-B6A8CD78E70F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286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ffff00"/>
                </a:solidFill>
                <a:latin typeface="Georgia"/>
              </a:rPr>
              <a:t>Шта</a:t>
            </a:r>
            <a:r>
              <a:rPr b="1" i="1" lang="en-US" sz="4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4000" spc="-1" strike="noStrike">
                <a:solidFill>
                  <a:srgbClr val="ffff00"/>
                </a:solidFill>
                <a:latin typeface="Georgia"/>
              </a:rPr>
              <a:t>нам</a:t>
            </a:r>
            <a:r>
              <a:rPr b="1" i="1" lang="en-US" sz="4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4000" spc="-1" strike="noStrike">
                <a:solidFill>
                  <a:srgbClr val="ffff00"/>
                </a:solidFill>
                <a:latin typeface="Georgia"/>
              </a:rPr>
              <a:t>омета</a:t>
            </a:r>
            <a:r>
              <a:rPr b="1" i="1" lang="en-US" sz="4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4000" spc="-1" strike="noStrike">
                <a:solidFill>
                  <a:srgbClr val="ffff00"/>
                </a:solidFill>
                <a:latin typeface="Georgia"/>
              </a:rPr>
              <a:t>добру</a:t>
            </a:r>
            <a:r>
              <a:rPr b="1" i="1" lang="en-US" sz="4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sr-CS" sz="4000" spc="-1" strike="noStrike">
                <a:solidFill>
                  <a:srgbClr val="ffff00"/>
                </a:solidFill>
                <a:latin typeface="Georgia"/>
              </a:rPr>
              <a:t>комуникацију</a:t>
            </a:r>
            <a:r>
              <a:rPr b="1" i="1" lang="en-US" sz="4000" spc="-1" strike="noStrike">
                <a:solidFill>
                  <a:srgbClr val="ffff00"/>
                </a:solidFill>
                <a:latin typeface="Georgia"/>
              </a:rPr>
              <a:t> ?</a:t>
            </a:r>
            <a:r>
              <a:rPr b="1" i="1" lang="en-US" sz="3600" spc="-1" strike="noStrike">
                <a:solidFill>
                  <a:srgbClr val="ffff0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e5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981F-02EE-491E-9639-B84332F7EC6E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76320" y="3808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рад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здравствених</a:t>
            </a:r>
            <a:r>
              <a:rPr b="1" lang="sr-Latn-C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радника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сматра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се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високо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стресним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већ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због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саме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његове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природе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: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садржаја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услова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и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начина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рада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организације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рада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радног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окружењ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бурне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промене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у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подручју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рада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које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се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стављају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пред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сваког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од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нас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како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бисмо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опстали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,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постављају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велике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захтеве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за</a:t>
            </a: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Georgia"/>
              </a:rPr>
              <a:t>прилагођавањ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N175013</dc:creator>
  <dc:description/>
  <dc:language>en-US</dc:language>
  <cp:lastModifiedBy>Slavica</cp:lastModifiedBy>
  <dcterms:modified xsi:type="dcterms:W3CDTF">2017-01-16T09:44:01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